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E15-09E2-4942-B3FE-F2E506D2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1C7-AD84-45A8-AF67-6CB81DD4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810-94CA-49ED-A340-D09D1D68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6F9-64F3-45DC-A2E4-A81E179A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BDA-FC68-4766-AE8B-29B88F31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709-658F-498E-B7FD-9FC86125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780-483A-47FD-8A8D-82CF9A56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456-166A-45F5-AF97-3E4BC675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826-B40B-473C-B725-E3982EDB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7D5-6EB9-4A28-8ECB-D61BF3B5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263-4391-480D-B52C-AD2D81F5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C4C-57EB-4B61-B802-A7C22D5D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A4DD-7DEA-43A7-A4BF-E0872E7CE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 Narrow"/>
              </a:rPr>
              <a:t>Glory to God in the High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to God in the highe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peace to God’s peo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heavenly K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 an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orship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give you thank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praise you for your gl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ly So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take away the sin of the worl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re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receive our pray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alone are the Holy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Most Hig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glory of God the Fath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0:20Z</dcterms:created>
  <dc:creator>Anon Anon</dc:creator>
  <dc:description/>
  <dc:language>en-US</dc:language>
  <cp:lastModifiedBy>Anon Anon</cp:lastModifiedBy>
  <dcterms:modified xsi:type="dcterms:W3CDTF">2005-08-09T05:26:53Z</dcterms:modified>
  <cp:revision>10</cp:revision>
  <dc:subject/>
  <dc:title>PowerPoint Presentation</dc:title>
</cp:coreProperties>
</file>